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04938EA-E024-4AD9-9260-19AE8EA42C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12137D3-F0C3-4812-9C81-0CAFFD315C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6605B82-AAC2-45BC-A8FE-91CA416674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9C33E75-D9D3-453D-9932-E6E8B823F8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at measured battery SOC is technically also a model – the battery controller reports an estimated S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8353C70-D19C-4F13-83D5-1094E43E6D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8CC0DBD-3640-4675-9573-D07DCA5780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4849318-349D-4AB2-ACB7-057CFC245EF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A5F60F9-D37B-4A7E-9606-ACAED3D8D3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8A05B35-A423-4180-9CA2-A59A5AB066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441F083-6676-4527-8908-0092D70C43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81977FC-8F91-4515-8BBC-967837ABA9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974B7E9-0B43-487D-8BF6-03DCE4EF8E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C2E8069-D190-48A4-BDA9-3871B94155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E998D8D-0F69-47B8-8E32-688E2993F7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42F68AE-B531-4625-BED6-5C388E2428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DFF7-D441-4906-972E-DB7E6FAE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CCA8-7C1C-4F2E-8DCB-1AECEBB1F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8B8A-5004-4F7E-B088-7A78D4D40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0C1A-4D7D-46FC-ACB1-1F78F2C2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2784-3C72-43F5-A13B-C7B5577D5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19898-45B7-4BD9-B20A-9BD30224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CAE0-3484-4CB0-ACBB-0D5575C0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8D892-0068-4F72-BF4C-0832C393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85C9-56D2-4EA9-9E1E-90703CAC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AF59-7F49-4D31-BC91-C4322C85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F0320-9429-477A-921E-FBE7362A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642C-8F17-46C5-BD24-A43D9F8D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6FAA-8E2D-4FEC-8433-147DF464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898BC-AA49-461F-A3A4-131957EA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A2FDD-5D2E-4DFC-A56D-264A9FDE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12CF0-0909-4EA0-80DA-BBE72885C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465B-5CFC-4910-90C8-9BB0BC16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9365-2583-4610-83BC-309507D75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06E8-1D80-4829-A61F-1E2E6FBB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4252-02CA-4A8E-AED7-92FCE8EA6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1BD8-01D7-4D78-B46F-B4BBBCF30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829E-84B1-4C1C-B755-841AC7EE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B7D0-89E3-42F1-882B-791DD84E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41C-69A6-4687-A9E7-745D4ED8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CBB0-7523-40CC-A89E-FF62A75E67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5"/>
          <p:cNvSpPr/>
          <p:nvPr/>
        </p:nvSpPr>
        <p:spPr>
          <a:xfrm>
            <a:off x="3565440" y="6060960"/>
            <a:ext cx="47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DC2A2-D2AE-477D-B33A-597A11308F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ynamic Energy Storage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cture 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BD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730080" y="1359000"/>
            <a:ext cx="7696440" cy="51181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regenerative braking current, the model is very accurat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el is also accurate for small current level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730080" y="1282680"/>
            <a:ext cx="7696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comparison between simulated and recorded SOC reveals differenc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730080" y="1279440"/>
            <a:ext cx="7039080" cy="51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hermal data is not very dynamic, but does show agreement with the mode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9" descr=""/>
          <p:cNvPicPr/>
          <p:nvPr/>
        </p:nvPicPr>
        <p:blipFill>
          <a:blip r:embed="rId1"/>
          <a:stretch/>
        </p:blipFill>
        <p:spPr>
          <a:xfrm>
            <a:off x="730080" y="1357200"/>
            <a:ext cx="7093080" cy="51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changes could be made in an attempt to increase model accurac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ttery internal resistance could be changed to a function of SOC and tempera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ttery open circuit voltage could be changed to a function of SO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able internal resistances or capacitance could be added to th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attery model provides a simple way of calculating battery performanc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model accurately calculates battery current up to about 100 am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erally, battery losses are predicted to within 10% of their measured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efore, this battery model would be most appropriate for evaluations over part-load drive cycle dem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more advanced battery modeling techniques, refer to PSU’s course on battery model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776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 Based Design: Battery Syst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Internal Resistance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648320" cy="35416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609480" y="4419360"/>
            <a:ext cx="85089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modeling a HV battery, we will be using a simple internal resistance model that only involves voltage, resistance, and current. Although the model is overly simple, it is effective for our model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model calculations involve three major step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02680" y="129528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ttery losses are calculated as 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 losses using the open circuit voltage and appropriate charge or discharge re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OC is calculated as the change in energy from the initial SOC based on the amount of power into or out of the battery and a defined timeste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ttery temperature is then calculated using the internal losses of the battery and associated thermal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tery losses are calculated by solving for the current when power is know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304920" y="2743200"/>
                <a:ext cx="2385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228600" y="1828800"/>
                <a:ext cx="27417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deal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Vo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0"/>
              <p:cNvSpPr txBox="1"/>
              <p:nvPr/>
            </p:nvSpPr>
            <p:spPr>
              <a:xfrm>
                <a:off x="4419720" y="2209680"/>
                <a:ext cx="4278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Voc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2"/>
              <p:cNvSpPr txBox="1"/>
              <p:nvPr/>
            </p:nvSpPr>
            <p:spPr>
              <a:xfrm>
                <a:off x="552600" y="4952880"/>
                <a:ext cx="3867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c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o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P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4"/>
              <p:cNvSpPr txBox="1"/>
              <p:nvPr/>
            </p:nvSpPr>
            <p:spPr>
              <a:xfrm>
                <a:off x="5867280" y="5334120"/>
                <a:ext cx="2476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Voc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AutoShape 17"/>
          <p:cNvSpPr/>
          <p:nvPr/>
        </p:nvSpPr>
        <p:spPr>
          <a:xfrm>
            <a:off x="3276720" y="2286000"/>
            <a:ext cx="990360" cy="533520"/>
          </a:xfrm>
          <a:prstGeom prst="rightArrow">
            <a:avLst>
              <a:gd name="adj1" fmla="val 50000"/>
              <a:gd name="adj2" fmla="val 46407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3581280" y="3657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e f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19"/>
          <p:cNvSpPr/>
          <p:nvPr/>
        </p:nvSpPr>
        <p:spPr>
          <a:xfrm rot="8317200">
            <a:off x="4722480" y="320832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0"/>
          <p:cNvSpPr/>
          <p:nvPr/>
        </p:nvSpPr>
        <p:spPr>
          <a:xfrm rot="8317200">
            <a:off x="3579480" y="419904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ounded Rectangle 1"/>
          <p:cNvSpPr/>
          <p:nvPr/>
        </p:nvSpPr>
        <p:spPr>
          <a:xfrm>
            <a:off x="4343400" y="2075040"/>
            <a:ext cx="4419720" cy="973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ounded Rectangle 14"/>
          <p:cNvSpPr/>
          <p:nvPr/>
        </p:nvSpPr>
        <p:spPr>
          <a:xfrm>
            <a:off x="152280" y="1676520"/>
            <a:ext cx="2895840" cy="1981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ounded Rectangle 15"/>
          <p:cNvSpPr/>
          <p:nvPr/>
        </p:nvSpPr>
        <p:spPr>
          <a:xfrm>
            <a:off x="533520" y="4876920"/>
            <a:ext cx="3962160" cy="12952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tery SOC is calculated by knowing the change in battery internal ener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14"/>
          <p:cNvSpPr/>
          <p:nvPr/>
        </p:nvSpPr>
        <p:spPr>
          <a:xfrm rot="5400000">
            <a:off x="3768480" y="25905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8"/>
              <p:cNvSpPr txBox="1"/>
              <p:nvPr/>
            </p:nvSpPr>
            <p:spPr>
              <a:xfrm>
                <a:off x="2778120" y="1752480"/>
                <a:ext cx="2631960" cy="6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os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20"/>
              <p:cNvSpPr txBox="1"/>
              <p:nvPr/>
            </p:nvSpPr>
            <p:spPr>
              <a:xfrm>
                <a:off x="2625840" y="3276720"/>
                <a:ext cx="28605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b>
                    </m:sSub>
                    <m:r>
                      <m:t xml:space="preserve">∗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22"/>
              <p:cNvSpPr txBox="1"/>
              <p:nvPr/>
            </p:nvSpPr>
            <p:spPr>
              <a:xfrm>
                <a:off x="1523880" y="4649760"/>
                <a:ext cx="5796000" cy="137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e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O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ld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t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E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6" name="AutoShape 24"/>
          <p:cNvSpPr/>
          <p:nvPr/>
        </p:nvSpPr>
        <p:spPr>
          <a:xfrm rot="5400000">
            <a:off x="3768480" y="4190760"/>
            <a:ext cx="609480" cy="457200"/>
          </a:xfrm>
          <a:prstGeom prst="rightArrow">
            <a:avLst>
              <a:gd name="adj1" fmla="val 50000"/>
              <a:gd name="adj2" fmla="val 33327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ttery temperature is a function of internal losses and heat remov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228600" y="17208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t generated in the battery – Heat removed from the batter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= Increase in battery stored thermal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7"/>
          <p:cNvSpPr/>
          <p:nvPr/>
        </p:nvSpPr>
        <p:spPr>
          <a:xfrm rot="5400000">
            <a:off x="4038120" y="2971800"/>
            <a:ext cx="838440" cy="685800"/>
          </a:xfrm>
          <a:prstGeom prst="rightArrow">
            <a:avLst>
              <a:gd name="adj1" fmla="val 50000"/>
              <a:gd name="adj2" fmla="val 30564"/>
            </a:avLst>
          </a:prstGeom>
          <a:solidFill>
            <a:srgbClr val="558ed5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18"/>
              <p:cNvSpPr txBox="1"/>
              <p:nvPr/>
            </p:nvSpPr>
            <p:spPr>
              <a:xfrm>
                <a:off x="914400" y="3962520"/>
                <a:ext cx="7148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oss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U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ev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mb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p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ev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C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ata from the Virginia Tech Challenge X vehicle was used for model validatio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8" descr=""/>
          <p:cNvPicPr/>
          <p:nvPr/>
        </p:nvPicPr>
        <p:blipFill>
          <a:blip r:embed="rId1"/>
          <a:stretch/>
        </p:blipFill>
        <p:spPr>
          <a:xfrm>
            <a:off x="2743200" y="1495440"/>
            <a:ext cx="400860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del shows reasonable accuracy for voltage and curr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4267080" y="2971800"/>
            <a:ext cx="4695840" cy="3390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"/>
          <p:cNvPicPr/>
          <p:nvPr/>
        </p:nvPicPr>
        <p:blipFill>
          <a:blip r:embed="rId2"/>
          <a:stretch/>
        </p:blipFill>
        <p:spPr>
          <a:xfrm>
            <a:off x="0" y="1542960"/>
            <a:ext cx="468648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large current draw from the battery shows some model inaccuraci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730080" y="1434960"/>
            <a:ext cx="769644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1:56:18Z</dcterms:created>
  <dc:creator>pkreh</dc:creator>
  <dc:description/>
  <dc:language>en-US</dc:language>
  <cp:lastModifiedBy>Beth Bezaire</cp:lastModifiedBy>
  <cp:lastPrinted>2000-12-19T20:25:35Z</cp:lastPrinted>
  <dcterms:modified xsi:type="dcterms:W3CDTF">2014-07-10T23:33:10Z</dcterms:modified>
  <cp:revision>47</cp:revision>
  <dc:subject/>
  <dc:title>Title of Presentation</dc:title>
</cp:coreProperties>
</file>